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B07DE-6FE8-4CA9-9C70-F1C1E88A1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B8A35-480F-4D8D-B964-E2731229E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AAE0B-F89D-4FDF-BD8D-CB1CD8EDB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81E41-7CDE-46DE-8DE9-509366B0D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290584-71DC-4C71-8EA4-B4984A9DD3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A3D50-DDC9-4694-9AC0-9BAE7BDD1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E2016-7174-418B-83A9-6FF1219A0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7F93F-3540-4DB5-8F0F-38E956A26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9274A4-F076-49D5-BC90-00C5AD7AA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D4A523-059F-4852-95B8-6A609F937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537B4-05FA-4CA3-A274-EB41AF972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5B15D-1660-40B7-B578-296CEC049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9AA5E-C63B-4F2F-A3E6-A91610604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80B04-73F7-4095-9CA9-4B32B3902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DA864-D54F-4AB9-AD06-546FF99ED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AB7C4C-043B-43D1-A21A-D789467C56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FD88C7-C43A-49DA-A43A-BC9BE6E045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32249C-EC6E-4CA6-ACF4-49A4307B1C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70961B-25C8-45B4-B091-F548978C05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2E607B-267E-4FC9-9D30-3BAB9BFA29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EE49F7-DB6B-4C8C-8188-C1E43807C5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965855-F35E-42FF-9FEA-F76F9FAB49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001BF-0554-48B7-826B-0C1F17428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34C5F7-8F07-4463-BC0B-620F1587CF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F270B9-E660-483E-900B-F638EF1A68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82F707-4983-4197-BC81-8196C88BF2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1080FF-792B-42F7-9FB1-0275C3CF50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B811FB-8C8A-4E69-8AC0-85B42C3449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614996-910D-42CC-9456-B48AB15F31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D3F928-0F0B-4478-A334-0F75E0166F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348DA6-1996-48C1-934C-794D025263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EB1A99-D561-46E2-9235-C1714D5ACD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44BC1E-EE6D-4BAE-AB19-2EA618E066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BFF2D-A00B-4518-864F-4336EBBEC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7F6170-EAC4-4C02-8DD1-AAC3894116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5D91BA-6AAF-4914-9F66-AF94084FD7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3C6BAC-2A8E-4E44-B1E6-0F408911CC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817759-9D46-46E8-8E24-2DFF6741D8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535C51-E499-4E89-BDDC-72645402DC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9DF0AD-85A3-40FA-BAA5-48C0AFE3CB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E17409-09C1-47FA-9BEC-2BA9BF6FE8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1CA0A2-16C6-4AC4-A333-4AEF1E19C2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610626-2A38-462F-ACE2-19071D9C57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E48ED-DB95-4009-AB05-B229F412F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290C9-1F80-4019-BBD8-9EB1F7F33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8CD15-FD58-469D-9A8F-594754693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FAF93-D5C0-4DFC-BC48-3F6A7E615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90308-C5A6-4643-9B61-D3D75E979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6D139-3B22-4B0D-A5B6-E15F79A2370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pic>
        <p:nvPicPr>
          <p:cNvPr id="14" name="Picture 8" descr="LOGO"/>
          <p:cNvPicPr/>
          <p:nvPr/>
        </p:nvPicPr>
        <p:blipFill>
          <a:blip r:embed="rId5"/>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800" spc="-1" strike="noStrike">
              <a:solidFill>
                <a:srgbClr val="000000"/>
              </a:solidFill>
              <a:latin typeface="Arial"/>
            </a:endParaRPr>
          </a:p>
        </p:txBody>
      </p:sp>
      <p:sp>
        <p:nvSpPr>
          <p:cNvPr id="5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800" spc="-1" strike="noStrike">
              <a:solidFill>
                <a:srgbClr val="000000"/>
              </a:solidFill>
              <a:latin typeface="Arial"/>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57" name="Freeform 12"/>
            <p:cNvGrpSpPr/>
            <p:nvPr/>
          </p:nvGrpSpPr>
          <p:grpSpPr>
            <a:xfrm>
              <a:off x="-19080" y="248040"/>
              <a:ext cx="9181080" cy="565200"/>
              <a:chOff x="-19080" y="248040"/>
              <a:chExt cx="9181080" cy="565200"/>
            </a:xfrm>
          </p:grpSpPr>
          <p:pic>
            <p:nvPicPr>
              <p:cNvPr id="58" name="Freeform 12" descr=""/>
              <p:cNvPicPr/>
              <p:nvPr/>
            </p:nvPicPr>
            <p:blipFill>
              <a:blip r:embed="rId4"/>
              <a:stretch/>
            </p:blipFill>
            <p:spPr>
              <a:xfrm>
                <a:off x="-3240" y="248040"/>
                <a:ext cx="9165240" cy="565200"/>
              </a:xfrm>
              <a:prstGeom prst="rect">
                <a:avLst/>
              </a:prstGeom>
              <a:ln w="0">
                <a:noFill/>
              </a:ln>
            </p:spPr>
          </p:pic>
          <p:sp>
            <p:nvSpPr>
              <p:cNvPr id="59"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pic>
        <p:nvPicPr>
          <p:cNvPr id="60" name="Picture 8" descr="LOGO"/>
          <p:cNvPicPr/>
          <p:nvPr/>
        </p:nvPicPr>
        <p:blipFill>
          <a:blip r:embed="rId5"/>
          <a:stretch/>
        </p:blipFill>
        <p:spPr>
          <a:xfrm>
            <a:off x="2000160" y="0"/>
            <a:ext cx="4857840" cy="1163520"/>
          </a:xfrm>
          <a:prstGeom prst="rect">
            <a:avLst/>
          </a:prstGeom>
          <a:ln w="0">
            <a:noFill/>
          </a:ln>
        </p:spPr>
      </p:pic>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39631-0D90-4659-9ED6-F3B98E65BAB7}"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800" spc="-1" strike="noStrike">
              <a:solidFill>
                <a:srgbClr val="000000"/>
              </a:solidFill>
              <a:latin typeface="Arial"/>
            </a:endParaRPr>
          </a:p>
        </p:txBody>
      </p:sp>
      <p:sp>
        <p:nvSpPr>
          <p:cNvPr id="10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800" spc="-1" strike="noStrike">
              <a:solidFill>
                <a:srgbClr val="000000"/>
              </a:solidFill>
              <a:latin typeface="Arial"/>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08" name="Freeform 12"/>
            <p:cNvGrpSpPr/>
            <p:nvPr/>
          </p:nvGrpSpPr>
          <p:grpSpPr>
            <a:xfrm>
              <a:off x="-19080" y="248040"/>
              <a:ext cx="9181080" cy="565200"/>
              <a:chOff x="-19080" y="248040"/>
              <a:chExt cx="9181080" cy="565200"/>
            </a:xfrm>
          </p:grpSpPr>
          <p:pic>
            <p:nvPicPr>
              <p:cNvPr id="109" name="Freeform 12" descr=""/>
              <p:cNvPicPr/>
              <p:nvPr/>
            </p:nvPicPr>
            <p:blipFill>
              <a:blip r:embed="rId4"/>
              <a:stretch/>
            </p:blipFill>
            <p:spPr>
              <a:xfrm>
                <a:off x="-3240" y="248040"/>
                <a:ext cx="9165240" cy="565200"/>
              </a:xfrm>
              <a:prstGeom prst="rect">
                <a:avLst/>
              </a:prstGeom>
              <a:ln w="0">
                <a:noFill/>
              </a:ln>
            </p:spPr>
          </p:pic>
          <p:sp>
            <p:nvSpPr>
              <p:cNvPr id="110"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pic>
        <p:nvPicPr>
          <p:cNvPr id="111" name="Picture 8" descr="LOGO"/>
          <p:cNvPicPr/>
          <p:nvPr/>
        </p:nvPicPr>
        <p:blipFill>
          <a:blip r:embed="rId5"/>
          <a:stretch/>
        </p:blipFill>
        <p:spPr>
          <a:xfrm>
            <a:off x="2000160" y="0"/>
            <a:ext cx="4857840" cy="1163520"/>
          </a:xfrm>
          <a:prstGeom prst="rect">
            <a:avLst/>
          </a:prstGeom>
          <a:ln w="0">
            <a:noFill/>
          </a:ln>
        </p:spPr>
      </p:pic>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B1334-3F6F-47D2-BA08-C8C0753CF70B}"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4"/>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54" name="Right Triangle 15"/>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Freeform 16"/>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800" spc="-1" strike="noStrike">
              <a:solidFill>
                <a:srgbClr val="000000"/>
              </a:solidFill>
              <a:latin typeface="Arial"/>
            </a:endParaRPr>
          </a:p>
        </p:txBody>
      </p:sp>
      <p:sp>
        <p:nvSpPr>
          <p:cNvPr id="156" name="Freeform 18"/>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800" spc="-1" strike="noStrike">
              <a:solidFill>
                <a:srgbClr val="000000"/>
              </a:solidFill>
              <a:latin typeface="Arial"/>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DA305-1B1D-495D-885A-C6A49FA27AF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Интегрисане академске студије </a:t>
            </a:r>
            <a:r>
              <a:rPr b="0" lang="sr-RS" sz="2800" spc="-1" strike="noStrike">
                <a:solidFill>
                  <a:srgbClr val="04617b"/>
                </a:solidFill>
                <a:latin typeface="Calibri"/>
              </a:rPr>
              <a:t>стоматологије</a:t>
            </a:r>
            <a:endParaRPr b="0" lang="en-US" sz="28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nstantia"/>
              </a:rPr>
              <a:t>Предмет: Енглески језик</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nstantia"/>
              </a:rPr>
              <a:t>Предавач: Душица Лазић</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Translation</a:t>
            </a:r>
            <a:endParaRPr b="0" lang="en-US" sz="2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nstantia"/>
              </a:rPr>
              <a:t>Превести реченице на енглески језик уз правилну употребу граматичких облика.</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19" name="" descr=""/>
          <p:cNvPicPr/>
          <p:nvPr/>
        </p:nvPicPr>
        <p:blipFill>
          <a:blip r:embed="rId1"/>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21" name="" descr=""/>
          <p:cNvPicPr/>
          <p:nvPr/>
        </p:nvPicPr>
        <p:blipFill>
          <a:blip r:embed="rId1"/>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23" name="" descr=""/>
          <p:cNvPicPr/>
          <p:nvPr/>
        </p:nvPicPr>
        <p:blipFill>
          <a:blip r:embed="rId1"/>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Endodontics</a:t>
            </a:r>
            <a:endParaRPr b="0" lang="en-US" sz="28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ndodontics is a specialty of dentistry, that deals with the tooth pulp and tissues surrounding the rooth of a tooth. The pulp can become diseased or injured and thus is unable to repair itself. The pulp then dies and endodontic treatment is required. The word comes from the Greek words endo meaning inside and odons meaning tooth. The most common procedure done in endodontics is root-canal therapy. This procedure aims to save a tooth that would otherwise be extracted due to infection caused by decay a large filling, or trauma to the tooth. Root canal therapy involves the removal of diseased pulp tissue inside the tooth. The aim of treatment is to remove irreversibly inflamed, or necrotic pulp tissue before infection sets in. when the pulp tissue becomes infected, caused by bacteria from inside the tooth, the infection can leak out of the tooth’s root.....The rest of the lesson can be found in the textbook “English in Dentistry”, by Natasa Milosavljevic.</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Words to remember:</a:t>
            </a:r>
            <a:endParaRPr b="0" lang="en-US" sz="28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utta-percha</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eriradicula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bturatio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ugenol</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paqu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ulpectom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ulpotom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oid</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Talking points:</a:t>
            </a:r>
            <a:endParaRPr b="0" lang="en-US" sz="28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IMPORTANCE OF ENDODONTIC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NDODONTIC THERAPY</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OOT CANAL TREATMEN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Underline the word which is different from the others:</a:t>
            </a:r>
            <a:endParaRPr b="0" lang="en-US" sz="28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esence       unavailability    omission        absenc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valuation     estimate            assessment    disregar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upport         opposition        assistance       help</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rowth          advancement    stagnation      development</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verall           general              inclusive         narrow</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isplay          demonstrate     hide                 exhibit</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alm              disordered        turbulent        stormy</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vent               keep                  express            releas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nquer        overcome          defeat              fail</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nfidence   assurance          trust                diffidence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rovide the antonyms of the following words:</a:t>
            </a:r>
            <a:endParaRPr b="0" lang="en-US" sz="28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creas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ut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gnifican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ystemic</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gressio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versibl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ital</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Insert the right preposition:</a:t>
            </a:r>
            <a:endParaRPr b="0" lang="en-US" sz="28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se disorders can be divided………..the organic and functional.</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at do pharmacologists base that theory……….?</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lease, tell this patient to write his name……..the bottom of the pag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ll his activities were associated………..that important research.</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You must limit your study……….twenty patients only.</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ose therapies refer……….severe mental disorder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ersonal growth is reflected……….one’s sense of continued psychological growth and development.</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ability to cope……adversity may be crucial……..one’s health.</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ut the verbs in brackets into the Future Perfect or Future Perfect Continuous Tense:</a:t>
            </a:r>
            <a:endParaRPr b="0" lang="en-US" sz="28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e’re late. The meeting (start) by the time we get to the faculty.</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n May 5, 2015, we (attend) this course exactly for three year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y this time next year, my friend (finish) his studi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urry up! She (go out) before you arrive ther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y 12 o’clock, they (work) for ten hour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e (do) all these exercises by noon.</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 March 2017, this professor (teach) you for four year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 expect some of you (guess) the answer to that questio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Form Passive Voice sentences by using the words and phrases below:</a:t>
            </a:r>
            <a:endParaRPr b="0" lang="en-US" sz="28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ew pharmacies/build/in this area/now</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reward/for his invention/two years ago</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You/give/a medicine box/tomorrow</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drug/approve/recently/by the board</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at drugstore/well/supply/with antibiotic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e/can/release/from hospital/so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4-02-09T19:45:56Z</dcterms:modified>
  <cp:revision>22</cp:revision>
  <dc:subject/>
  <dc:title>Slide 1</dc:title>
</cp:coreProperties>
</file>